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EA20-0F89-4F5F-BECE-F9F8B98521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8871-A2C2-4B5F-945F-2A2720C278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7AE-0FD2-455C-8EE1-FCC6D836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050-6ADA-4935-9C6E-A0858596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152-33D3-4A7B-9CC1-EB738C56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334-1634-430F-B8A0-10C57732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1E6C-0737-4E8B-A313-3BC3D0D9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AB8A-3C49-40F6-AD6E-1F277839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74F8-889D-4075-ADB1-66718C3D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60D8-DB5D-47D4-8423-1462C3AF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D6E9-6BB8-4FBD-9D67-72234707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5C79-A821-4D0D-A872-E157255D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1312-C3CE-4111-9615-0F1D6CBB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915-431D-402F-A409-131D198E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E670-E346-4262-8F0B-10FF0167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1A0E-60F5-43D7-B24E-5316B582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2C1F-C774-40EB-B1BA-35740068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8EB7-F190-4FAC-B064-5521F597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5E63-93B2-41F2-8B4E-FE99F998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2E8A0-D8C9-4A36-A464-65961FCF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CFB0-A7F9-4007-B6BE-9B2FFDDA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B47B6-5CD5-49DA-8961-4BCD0923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F50C-8ED8-4460-A32A-B11826E9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94FB-707C-4EE0-984D-04CC71C2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1DD-FCA6-46C0-9D1A-FBD9648D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6D9B-61CF-424F-822D-6C0F05A4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25EA1-6E4D-4BB8-B863-9B23F46A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38F4B-CE68-48F4-B9D8-0316031A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AA91-F411-4636-A89E-0B315D0E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F277-8882-44C8-A3DC-BF9BF5F0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B8DEE-A950-4F8F-92F1-8A8CE78C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305E1-BC81-406C-AE47-9586E305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993A-CC50-42EF-900E-6742CC34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D6BF6-691D-4260-ADF8-3A068EC1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F978-498C-44DB-80C4-6804AFA5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4C3-4D3A-4E51-9BDB-0733D577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C9A7C-9254-433B-80B7-E2BA28EB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46C18-8D14-469B-BFFA-918B4AEC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94887-8F3B-4E3D-B297-07071A1F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D167A-B488-4504-AF13-3F82A4DD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6CB2-78B7-468D-BDE2-D4EFF63A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3A3E0-B571-42CE-B409-85CA36EC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3EDD0-C00D-451D-AE94-ED8F48C9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DB5B-6E13-41B4-B1A9-34DE094E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743E-E96E-4394-BA68-EE6023DA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49162-109D-4AD2-BA66-6C9E1D2B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E40-4093-4ED9-AD29-EA5F11DD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1B02A-AB0B-446C-A668-82F1C467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E9FFB-FC12-4879-BC05-D9DCE8B0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BAC76-AE37-448A-901E-3284AC94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7DEA-53BA-440B-9F82-842DC71E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58B0-5A26-4EF3-A4B1-FE26A5B4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277A5-6BEE-449E-9FAC-1E895D53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C2711-2395-46F1-84C3-B1815C6B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3A34C-CBD2-4A14-881F-FA29F5C0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9E04D-343B-451F-8DC1-0FEF9817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ED03A-C26D-4968-8986-123B0A96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3C7-E2A0-4A1B-94F0-C558495B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BFF84-C65D-4EB0-8756-E16D58C3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138-6676-488A-B1C6-3C9CF796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2C4-5D3A-433D-97FB-250ED11B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81C-D491-4416-B5C6-A53F618C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82D5-E7BB-4D09-A48F-9BFC9D831457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6D22-287F-439C-875E-54D713F5FA1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B764-AA20-4AE7-A6AD-2A8A7D3D42C6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78FF-F0C2-4FBC-B2D1-34108AC8250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A0C6-31DF-4C04-BB7F-FBCEE45C88CE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6B69-5179-4DCA-A735-BDCB996B88F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C9EF-795D-4DD9-A35E-09E46A49C620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9BA7-3D5B-425A-9797-0C0DF47B3C1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9021-11C7-46AD-921D-F932602B656F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3612-08A5-44D5-BDF1-1713E5F1645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b6431"/>
                </a:solidFill>
                <a:latin typeface="Verdana"/>
              </a:rPr>
              <a:t>Половое размножение расте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6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ОУ СОШ №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D:\All_f\Tema\Art\Nature\1117.jpg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4296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ление – это процесс переноса пыльцы с тычинки на рыльце пест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F0B3-1253-47D4-BE88-1994892A0186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1" descr="opilehie"/>
          <p:cNvPicPr/>
          <p:nvPr/>
        </p:nvPicPr>
        <p:blipFill>
          <a:blip r:embed="rId1"/>
          <a:stretch/>
        </p:blipFill>
        <p:spPr>
          <a:xfrm>
            <a:off x="1214280" y="2500200"/>
            <a:ext cx="6769080" cy="2311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4280" y="2071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амоопы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78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крес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7"/>
          <p:cNvSpPr/>
          <p:nvPr/>
        </p:nvSpPr>
        <p:spPr>
          <a:xfrm>
            <a:off x="5143680" y="1357200"/>
            <a:ext cx="3500280" cy="4429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71680" y="1558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может переноси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DDF7-CF2A-45A8-84B1-DC6C3E8E5AB4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58360" y="2414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екомыми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9760" y="3062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тицами      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23600" y="3914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76440" y="477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тром        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9" descr="птица"/>
          <p:cNvPicPr/>
          <p:nvPr/>
        </p:nvPicPr>
        <p:blipFill>
          <a:blip r:embed="rId1"/>
          <a:stretch/>
        </p:blipFill>
        <p:spPr>
          <a:xfrm>
            <a:off x="3562200" y="29862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вода"/>
          <p:cNvPicPr/>
          <p:nvPr/>
        </p:nvPicPr>
        <p:blipFill>
          <a:blip r:embed="rId2"/>
          <a:stretch/>
        </p:blipFill>
        <p:spPr>
          <a:xfrm>
            <a:off x="3562200" y="39006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ветер"/>
          <p:cNvPicPr/>
          <p:nvPr/>
        </p:nvPicPr>
        <p:blipFill>
          <a:blip r:embed="rId3"/>
          <a:stretch/>
        </p:blipFill>
        <p:spPr>
          <a:xfrm>
            <a:off x="3562200" y="48150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пчела2"/>
          <p:cNvPicPr/>
          <p:nvPr/>
        </p:nvPicPr>
        <p:blipFill>
          <a:blip r:embed="rId4"/>
          <a:stretch/>
        </p:blipFill>
        <p:spPr>
          <a:xfrm>
            <a:off x="3571920" y="20718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5"/>
          <p:cNvSpPr/>
          <p:nvPr/>
        </p:nvSpPr>
        <p:spPr>
          <a:xfrm>
            <a:off x="5214960" y="1558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214960" y="200016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в хвойном лесу часто встречаются растения с белыми цветкам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у многих растений нектар спрятан в глубине цвет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гда в Австралию завезли семена клевера и посеяли их, то клевер вырос, хорошо цвел, но плодов и семян у него не было.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с одним вырезанным скругленным углом 14"/>
          <p:cNvSpPr/>
          <p:nvPr/>
        </p:nvSpPr>
        <p:spPr>
          <a:xfrm>
            <a:off x="3857760" y="1143000"/>
            <a:ext cx="4786200" cy="3286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227B-8EAF-4341-A9D2-B9A3B523AE97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3" descr="пыльцивая трубка"/>
          <p:cNvPicPr/>
          <p:nvPr/>
        </p:nvPicPr>
        <p:blipFill>
          <a:blip r:embed="rId1"/>
          <a:stretch/>
        </p:blipFill>
        <p:spPr>
          <a:xfrm>
            <a:off x="0" y="1071720"/>
            <a:ext cx="379404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1"/>
          <p:cNvSpPr/>
          <p:nvPr/>
        </p:nvSpPr>
        <p:spPr>
          <a:xfrm>
            <a:off x="4000680" y="1214280"/>
            <a:ext cx="471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– совокупность пыльцевых зере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мязачаток – образование у семенных растений из которого развивается сем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родышевый мешок – особый «мешочек», из которого после двойного оплодотворения развивается зародыш-эндоспер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ермий – мужская половая клетка, передвигающаяся пасси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Капля 12"/>
          <p:cNvSpPr/>
          <p:nvPr/>
        </p:nvSpPr>
        <p:spPr>
          <a:xfrm>
            <a:off x="2000160" y="5214960"/>
            <a:ext cx="71640" cy="14292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Капля 13"/>
          <p:cNvSpPr/>
          <p:nvPr/>
        </p:nvSpPr>
        <p:spPr>
          <a:xfrm>
            <a:off x="2000160" y="4643280"/>
            <a:ext cx="71640" cy="7164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9A80-9D41-470E-823A-EB123DC13090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760" y="1643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яйце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00040" y="27241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иг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73120" y="36608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ародыша                    образ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41840" y="4668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892760" y="17161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центральной 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3452760" y="4595760"/>
            <a:ext cx="1800360" cy="936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1868400" y="24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868400" y="3227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21"/>
          <p:cNvSpPr/>
          <p:nvPr/>
        </p:nvSpPr>
        <p:spPr>
          <a:xfrm>
            <a:off x="6550200" y="25081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252760" y="41641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2084400" y="416412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6720480" y="4000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ндоспе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Пл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642960" y="1214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тенок завязи образуется пл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DEF6-22D8-4EAA-9676-737B6EAF5D7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2" descr="D:\All_f\Tema\Art\Nature\513002.JPG"/>
          <p:cNvPicPr/>
          <p:nvPr/>
        </p:nvPicPr>
        <p:blipFill>
          <a:blip r:embed="rId1"/>
          <a:stretch/>
        </p:blipFill>
        <p:spPr>
          <a:xfrm>
            <a:off x="3463920" y="3071880"/>
            <a:ext cx="4822920" cy="3211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All_f\Tema\Art\Nature\513041.JPG"/>
          <p:cNvPicPr/>
          <p:nvPr/>
        </p:nvPicPr>
        <p:blipFill>
          <a:blip r:embed="rId2"/>
          <a:stretch/>
        </p:blipFill>
        <p:spPr>
          <a:xfrm>
            <a:off x="500040" y="1714680"/>
            <a:ext cx="4929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42960" y="1214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оплодотворение цветковых растений называют двойны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ки вишни и цветки томата имеют по одному пестику. В плодах вишни развивается по одному семени, а в плодах томата по нескольку десятков. С чем это связан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американский ботаник Имс говорил, что «плод – это зрелый цветок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огурцов имеются пустоцветы – тычиночные цветки, которые не образуют плодов. Нужно ли их обры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вестны случаи, когда цветок дает плод и «без брака». Чего не бывает в таких плодах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0C6A-26F1-40F8-A6F8-1F93527B3AC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с одним вырезанным скругленным углом 5"/>
          <p:cNvSpPr/>
          <p:nvPr/>
        </p:nvSpPr>
        <p:spPr>
          <a:xfrm>
            <a:off x="500040" y="1643040"/>
            <a:ext cx="6858000" cy="207180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42960" y="178596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не знал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предположить не мог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сих пор не укладывается в голове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B560-87B8-494B-83A7-0E5C73F502F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Дополнительная инфор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04BF-FD96-4D56-B8B8-37D63E32030B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" descr="E:\Биология\2-19-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398840" cy="5332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642960" y="1071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едование поколений у папоро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20" y="1643040"/>
          <a:ext cx="8429760" cy="37544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ер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Оплод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Спермато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ермафр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Оплодотворенная 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Развитие новой особи из зиготы, образующейся в результате оплодо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Муж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Слияние половых кл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Обоеполый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Жен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Воспроизведение подобных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. Половы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4"/>
          <p:cNvSpPr/>
          <p:nvPr/>
        </p:nvSpPr>
        <p:spPr>
          <a:xfrm>
            <a:off x="571680" y="121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 соотве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2581-7010-420B-A85A-97068C6D0B6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42960" y="121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жизни, дорогие д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ут, конечно, половые кл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те сформулируем вопр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 половые клетки и мейо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42960" y="2571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вая клетка несет ________ набор хромос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игота имеет _________ набор хромос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642960" y="37148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лкие, подвижные клетки с половинным набором хромосом называются яйце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рматозоид несет большой запас питательных веществ, ведь именно он обеспечивает питательными веществами зароды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отных, у которых особи способны образовывать только сперматозоиды или только яйцеклетки, называют гермафроди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642960" y="3286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справь ошиб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9D46-119D-4527-AA64-E53680A75D48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571680" y="1500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ли растения размножаться половым пут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143160" y="752400"/>
            <a:ext cx="450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a6a6a6"/>
                </a:solidFill>
                <a:latin typeface="Calibri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Изучение нового материа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Номер слайда 1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3D2F-2BBF-4769-AA54-A4772F5213D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2" descr="E:\Биология\2-19-1.jpg"/>
          <p:cNvPicPr/>
          <p:nvPr/>
        </p:nvPicPr>
        <p:blipFill>
          <a:blip r:embed="rId1"/>
          <a:stretch/>
        </p:blipFill>
        <p:spPr>
          <a:xfrm>
            <a:off x="3351240" y="1071720"/>
            <a:ext cx="536580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28760" y="1571760"/>
            <a:ext cx="35002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зигота покрыта толстой оболочко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й набор хромосом у взрослой хламидомона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28760" y="1143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A4D9-45F4-40AA-8D32-70372A3BE8F8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5286240" y="178596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спирогира именно осенью размножается половым пут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рогира может размножаться путем разрыва нитей на отдельные участки. Какое это размнож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889520" cy="478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5286240" y="1357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9EE2-B5AD-487C-813F-79E3F4699C6A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одним вырезанным скругленным углом 6"/>
          <p:cNvSpPr/>
          <p:nvPr/>
        </p:nvSpPr>
        <p:spPr>
          <a:xfrm>
            <a:off x="571680" y="1357200"/>
            <a:ext cx="8072280" cy="135756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«Черный ящ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42960" y="1500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ящике находятся 2 объекта, имеющих отношение к новой теме. Один из них – орган размножения цветковых растений, а другой можно назвать результатом этого процесса. О чем идет реч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4165-4B15-4F53-A62B-7A66ADD98646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Куб 5"/>
          <p:cNvSpPr/>
          <p:nvPr/>
        </p:nvSpPr>
        <p:spPr>
          <a:xfrm>
            <a:off x="2357280" y="2928960"/>
            <a:ext cx="3429000" cy="2286000"/>
          </a:xfrm>
          <a:prstGeom prst="cube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C498-173B-48CF-AAE2-E4F1560051DB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1" descr="цветок"/>
          <p:cNvPicPr/>
          <p:nvPr/>
        </p:nvPicPr>
        <p:blipFill>
          <a:blip r:embed="rId1"/>
          <a:stretch/>
        </p:blipFill>
        <p:spPr>
          <a:xfrm>
            <a:off x="3000240" y="1928880"/>
            <a:ext cx="575964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571680" y="1496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ок – специализированный орган полового размножения раст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571680" y="2157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главные части цветка. Почему их так называют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428760" y="13572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точки зрения русского языка, тычинка – слово женского рода, а пестик – мужского. А с точки зрения ботани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FFDC-835D-47B0-803D-A96AE2E4F07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пестик"/>
          <p:cNvPicPr/>
          <p:nvPr/>
        </p:nvPicPr>
        <p:blipFill>
          <a:blip r:embed="rId1"/>
          <a:stretch/>
        </p:blipFill>
        <p:spPr>
          <a:xfrm>
            <a:off x="7500960" y="1928880"/>
            <a:ext cx="124920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тычинка"/>
          <p:cNvPicPr/>
          <p:nvPr/>
        </p:nvPicPr>
        <p:blipFill>
          <a:blip r:embed="rId2"/>
          <a:stretch/>
        </p:blipFill>
        <p:spPr>
          <a:xfrm>
            <a:off x="7491240" y="4000680"/>
            <a:ext cx="1295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642960" y="2809800"/>
          <a:ext cx="6381720" cy="1833480"/>
        </p:xfrm>
        <a:graphic>
          <a:graphicData uri="http://schemas.openxmlformats.org/drawingml/2006/table">
            <a:tbl>
              <a:tblPr/>
              <a:tblGrid>
                <a:gridCol w="3190680"/>
                <a:gridCol w="319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ные части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Рыль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Тычиночная 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Столб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Пыльцевой ме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За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428760" y="22017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йди соответств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10:46Z</dcterms:created>
  <dc:creator>Archie</dc:creator>
  <dc:description/>
  <dc:language>en-US</dc:language>
  <cp:lastModifiedBy>КарМаН</cp:lastModifiedBy>
  <dcterms:modified xsi:type="dcterms:W3CDTF">2012-04-24T19:46:13Z</dcterms:modified>
  <cp:revision>58</cp:revision>
  <dc:subject/>
  <dc:title>Слайд 1</dc:title>
</cp:coreProperties>
</file>